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6975" cy="5670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EAB-C71E-4264-BBAC-E18CCF90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226800"/>
            <a:ext cx="90759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322280"/>
            <a:ext cx="90759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360" y="3276720"/>
            <a:ext cx="90759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750-55F0-416B-A371-3772B82B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226800"/>
            <a:ext cx="90759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322280"/>
            <a:ext cx="44287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322280"/>
            <a:ext cx="44287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360" y="3276720"/>
            <a:ext cx="44287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276720"/>
            <a:ext cx="44287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D84-AEF7-489A-808D-766C61BA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360" y="226800"/>
            <a:ext cx="90759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360" y="1322280"/>
            <a:ext cx="2922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3000" y="1322280"/>
            <a:ext cx="2922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1640" y="1322280"/>
            <a:ext cx="2922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60" y="3276720"/>
            <a:ext cx="2922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3000" y="3276720"/>
            <a:ext cx="2922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1640" y="3276720"/>
            <a:ext cx="29221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39A-ED59-4834-A9F4-D9BFA9F2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360" y="226800"/>
            <a:ext cx="90759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360" y="1322280"/>
            <a:ext cx="9075960" cy="37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964-2638-4B58-8DD9-AC85EC72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226800"/>
            <a:ext cx="90759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322280"/>
            <a:ext cx="90759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2E5-186B-45D3-AB40-4DA3E14C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226800"/>
            <a:ext cx="90759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360" y="1322280"/>
            <a:ext cx="4428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322280"/>
            <a:ext cx="4428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B25-1141-4D51-8506-E2453960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226800"/>
            <a:ext cx="90759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E66-2308-47AB-9927-B5930F67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360" y="226800"/>
            <a:ext cx="907596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852-2ED8-4006-AF18-4FEC82EB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226800"/>
            <a:ext cx="90759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360" y="1322280"/>
            <a:ext cx="44287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322280"/>
            <a:ext cx="4428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360" y="3276720"/>
            <a:ext cx="44287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97A-4633-422D-8A2C-2C3DC037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226800"/>
            <a:ext cx="90759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322280"/>
            <a:ext cx="4428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322280"/>
            <a:ext cx="44287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276720"/>
            <a:ext cx="44287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DAA-307F-420C-9E63-24AD96AD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226800"/>
            <a:ext cx="90759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322280"/>
            <a:ext cx="44287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322280"/>
            <a:ext cx="442872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360" y="3276720"/>
            <a:ext cx="907596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4AE-FB85-4DBC-B9CD-D78C1A13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226800"/>
            <a:ext cx="907596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322280"/>
            <a:ext cx="90759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5254560"/>
            <a:ext cx="2352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5254560"/>
            <a:ext cx="3192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254560"/>
            <a:ext cx="2352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BB213-B1EC-4A2F-94EC-D9C7C1855C1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uadroTexto 5"/>
          <p:cNvSpPr/>
          <p:nvPr/>
        </p:nvSpPr>
        <p:spPr>
          <a:xfrm>
            <a:off x="560520" y="2629080"/>
            <a:ext cx="896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s-ES" sz="2400" spc="-1" strike="noStrike">
                <a:solidFill>
                  <a:srgbClr val="7f7f7f"/>
                </a:solidFill>
                <a:latin typeface="Century Gothic"/>
                <a:ea typeface="Century Gothic"/>
              </a:rPr>
              <a:t>LPN 1303 -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1 CuadroTexto"/>
          <p:cNvSpPr/>
          <p:nvPr/>
        </p:nvSpPr>
        <p:spPr>
          <a:xfrm>
            <a:off x="547560" y="5176800"/>
            <a:ext cx="896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JUNIO/201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3 Grupo"/>
          <p:cNvGrpSpPr/>
          <p:nvPr/>
        </p:nvGrpSpPr>
        <p:grpSpPr>
          <a:xfrm>
            <a:off x="5743440" y="155520"/>
            <a:ext cx="3446640" cy="6400800"/>
            <a:chOff x="5743440" y="155520"/>
            <a:chExt cx="3446640" cy="6400800"/>
          </a:xfrm>
        </p:grpSpPr>
        <p:pic>
          <p:nvPicPr>
            <p:cNvPr id="44" name="1 Imagen" descr="20170602120001926_0001"/>
            <p:cNvPicPr/>
            <p:nvPr/>
          </p:nvPicPr>
          <p:blipFill>
            <a:blip r:embed="rId1"/>
            <a:stretch/>
          </p:blipFill>
          <p:spPr>
            <a:xfrm>
              <a:off x="5743440" y="155520"/>
              <a:ext cx="3446640" cy="527724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45" name="2 Rectángulo"/>
            <p:cNvSpPr/>
            <p:nvPr/>
          </p:nvSpPr>
          <p:spPr>
            <a:xfrm>
              <a:off x="5743440" y="5483520"/>
              <a:ext cx="3446640" cy="10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4 Rectángulo"/>
          <p:cNvSpPr/>
          <p:nvPr/>
        </p:nvSpPr>
        <p:spPr>
          <a:xfrm>
            <a:off x="388800" y="6336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Y" sz="1800" spc="-1" strike="noStrike">
                <a:solidFill>
                  <a:srgbClr val="404040"/>
                </a:solidFill>
                <a:latin typeface="Calibri"/>
              </a:rPr>
              <a:t>Miércoles 31 de May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Y" sz="1800" spc="-1" strike="noStrike">
                <a:solidFill>
                  <a:srgbClr val="404040"/>
                </a:solidFill>
                <a:latin typeface="Calibri"/>
              </a:rPr>
              <a:t>Diario La Nación Pág.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5 Grupo"/>
          <p:cNvGrpSpPr/>
          <p:nvPr/>
        </p:nvGrpSpPr>
        <p:grpSpPr>
          <a:xfrm>
            <a:off x="279360" y="806400"/>
            <a:ext cx="3378240" cy="5070600"/>
            <a:chOff x="279360" y="806400"/>
            <a:chExt cx="3378240" cy="5070600"/>
          </a:xfrm>
        </p:grpSpPr>
        <p:pic>
          <p:nvPicPr>
            <p:cNvPr id="48" name="6 Imagen" descr="20170602120001926_0001"/>
            <p:cNvPicPr/>
            <p:nvPr/>
          </p:nvPicPr>
          <p:blipFill>
            <a:blip r:embed="rId2"/>
            <a:stretch/>
          </p:blipFill>
          <p:spPr>
            <a:xfrm>
              <a:off x="279360" y="806400"/>
              <a:ext cx="3378240" cy="472104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49" name="7 Rectángulo"/>
            <p:cNvSpPr/>
            <p:nvPr/>
          </p:nvSpPr>
          <p:spPr>
            <a:xfrm>
              <a:off x="279360" y="5527440"/>
              <a:ext cx="337824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8 Rectángulo"/>
          <p:cNvSpPr/>
          <p:nvPr/>
        </p:nvSpPr>
        <p:spPr>
          <a:xfrm>
            <a:off x="257040" y="3768840"/>
            <a:ext cx="1125720" cy="1757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3 Grupo"/>
          <p:cNvGrpSpPr/>
          <p:nvPr/>
        </p:nvGrpSpPr>
        <p:grpSpPr>
          <a:xfrm>
            <a:off x="5708520" y="189000"/>
            <a:ext cx="3562560" cy="6411960"/>
            <a:chOff x="5708520" y="189000"/>
            <a:chExt cx="3562560" cy="6411960"/>
          </a:xfrm>
        </p:grpSpPr>
        <p:pic>
          <p:nvPicPr>
            <p:cNvPr id="52" name="1 Imagen" descr="20170602120001926_0002"/>
            <p:cNvPicPr/>
            <p:nvPr/>
          </p:nvPicPr>
          <p:blipFill>
            <a:blip r:embed="rId1"/>
            <a:stretch/>
          </p:blipFill>
          <p:spPr>
            <a:xfrm>
              <a:off x="5708520" y="189000"/>
              <a:ext cx="3539160" cy="53110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53" name="2 Rectángulo"/>
            <p:cNvSpPr/>
            <p:nvPr/>
          </p:nvSpPr>
          <p:spPr>
            <a:xfrm>
              <a:off x="5708520" y="5500080"/>
              <a:ext cx="3562560" cy="11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4 Rectángulo"/>
          <p:cNvSpPr/>
          <p:nvPr/>
        </p:nvSpPr>
        <p:spPr>
          <a:xfrm>
            <a:off x="388800" y="6336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Y" sz="1800" spc="-1" strike="noStrike">
                <a:solidFill>
                  <a:srgbClr val="404040"/>
                </a:solidFill>
                <a:latin typeface="Calibri"/>
              </a:rPr>
              <a:t>Jueves 01 de Juni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Y" sz="1800" spc="-1" strike="noStrike">
                <a:solidFill>
                  <a:srgbClr val="404040"/>
                </a:solidFill>
                <a:latin typeface="Calibri"/>
              </a:rPr>
              <a:t>Diario La Nación Pág. 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5 Grupo"/>
          <p:cNvGrpSpPr/>
          <p:nvPr/>
        </p:nvGrpSpPr>
        <p:grpSpPr>
          <a:xfrm>
            <a:off x="204840" y="880920"/>
            <a:ext cx="3452760" cy="4951440"/>
            <a:chOff x="204840" y="880920"/>
            <a:chExt cx="3452760" cy="4951440"/>
          </a:xfrm>
        </p:grpSpPr>
        <p:pic>
          <p:nvPicPr>
            <p:cNvPr id="56" name="6 Imagen" descr="20170602120001926_0002"/>
            <p:cNvPicPr/>
            <p:nvPr/>
          </p:nvPicPr>
          <p:blipFill>
            <a:blip r:embed="rId2"/>
            <a:stretch/>
          </p:blipFill>
          <p:spPr>
            <a:xfrm>
              <a:off x="204840" y="880920"/>
              <a:ext cx="3452760" cy="461412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57" name="7 Rectángulo"/>
            <p:cNvSpPr/>
            <p:nvPr/>
          </p:nvSpPr>
          <p:spPr>
            <a:xfrm>
              <a:off x="204840" y="5494680"/>
              <a:ext cx="3452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8 Rectángulo"/>
          <p:cNvSpPr/>
          <p:nvPr/>
        </p:nvSpPr>
        <p:spPr>
          <a:xfrm>
            <a:off x="1327320" y="3724200"/>
            <a:ext cx="1147680" cy="1758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3 Grupo"/>
          <p:cNvGrpSpPr/>
          <p:nvPr/>
        </p:nvGrpSpPr>
        <p:grpSpPr>
          <a:xfrm>
            <a:off x="5776920" y="184320"/>
            <a:ext cx="3544920" cy="6316560"/>
            <a:chOff x="5776920" y="184320"/>
            <a:chExt cx="3544920" cy="6316560"/>
          </a:xfrm>
        </p:grpSpPr>
        <p:pic>
          <p:nvPicPr>
            <p:cNvPr id="60" name="1 Imagen" descr="20170602120001926_0003"/>
            <p:cNvPicPr/>
            <p:nvPr/>
          </p:nvPicPr>
          <p:blipFill>
            <a:blip r:embed="rId1"/>
            <a:stretch/>
          </p:blipFill>
          <p:spPr>
            <a:xfrm>
              <a:off x="5776920" y="184320"/>
              <a:ext cx="3544920" cy="522432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61" name="2 Rectángulo"/>
            <p:cNvSpPr/>
            <p:nvPr/>
          </p:nvSpPr>
          <p:spPr>
            <a:xfrm>
              <a:off x="5776920" y="5414400"/>
              <a:ext cx="3544920" cy="10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4 Rectángulo"/>
          <p:cNvSpPr/>
          <p:nvPr/>
        </p:nvSpPr>
        <p:spPr>
          <a:xfrm>
            <a:off x="388800" y="6336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Y" sz="1800" spc="-1" strike="noStrike">
                <a:solidFill>
                  <a:srgbClr val="404040"/>
                </a:solidFill>
                <a:latin typeface="Calibri"/>
              </a:rPr>
              <a:t>Viernes 02 de Junio de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PY" sz="1800" spc="-1" strike="noStrike">
                <a:solidFill>
                  <a:srgbClr val="404040"/>
                </a:solidFill>
                <a:latin typeface="Calibri"/>
              </a:rPr>
              <a:t>Diario La Nación Pág. 3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5 Grupo"/>
          <p:cNvGrpSpPr/>
          <p:nvPr/>
        </p:nvGrpSpPr>
        <p:grpSpPr>
          <a:xfrm>
            <a:off x="235080" y="754200"/>
            <a:ext cx="3433680" cy="5078160"/>
            <a:chOff x="235080" y="754200"/>
            <a:chExt cx="3433680" cy="5078160"/>
          </a:xfrm>
        </p:grpSpPr>
        <p:pic>
          <p:nvPicPr>
            <p:cNvPr id="64" name="6 Imagen" descr="20170602120001926_0003"/>
            <p:cNvPicPr/>
            <p:nvPr/>
          </p:nvPicPr>
          <p:blipFill>
            <a:blip r:embed="rId2"/>
            <a:stretch/>
          </p:blipFill>
          <p:spPr>
            <a:xfrm>
              <a:off x="235080" y="754200"/>
              <a:ext cx="3433680" cy="471852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65" name="7 Rectángulo"/>
            <p:cNvSpPr/>
            <p:nvPr/>
          </p:nvSpPr>
          <p:spPr>
            <a:xfrm>
              <a:off x="235080" y="5486040"/>
              <a:ext cx="34336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8 Rectángulo"/>
          <p:cNvSpPr/>
          <p:nvPr/>
        </p:nvSpPr>
        <p:spPr>
          <a:xfrm>
            <a:off x="2508120" y="3691080"/>
            <a:ext cx="1160640" cy="1760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1" descr=""/>
          <p:cNvPicPr/>
          <p:nvPr/>
        </p:nvPicPr>
        <p:blipFill>
          <a:blip r:embed="rId1"/>
          <a:stretch/>
        </p:blipFill>
        <p:spPr>
          <a:xfrm>
            <a:off x="-1440" y="0"/>
            <a:ext cx="10082160" cy="5697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M:\Documentos\Biedermann Publicidad\CLIPPING\2016\Gustavo\BP nuevo.png"/>
          <p:cNvPicPr/>
          <p:nvPr/>
        </p:nvPicPr>
        <p:blipFill>
          <a:blip r:embed="rId2"/>
          <a:stretch/>
        </p:blipFill>
        <p:spPr>
          <a:xfrm>
            <a:off x="3033720" y="2246400"/>
            <a:ext cx="4019400" cy="1079280"/>
          </a:xfrm>
          <a:prstGeom prst="rect">
            <a:avLst/>
          </a:prstGeom>
          <a:ln w="0">
            <a:noFill/>
          </a:ln>
        </p:spPr>
      </p:pic>
      <p:sp>
        <p:nvSpPr>
          <p:cNvPr id="69" name="1 CuadroTexto"/>
          <p:cNvSpPr/>
          <p:nvPr/>
        </p:nvSpPr>
        <p:spPr>
          <a:xfrm>
            <a:off x="3625920" y="3828960"/>
            <a:ext cx="28353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La Verdad Bien Dicha, Las Cosas Bien Hecha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4T13:43:17Z</dcterms:created>
  <dc:creator>Abel Balbuena Fartolino</dc:creator>
  <dc:description/>
  <dc:language>en-US</dc:language>
  <cp:lastModifiedBy>Gustavo Maciel</cp:lastModifiedBy>
  <dcterms:modified xsi:type="dcterms:W3CDTF">2017-06-06T19:00:36Z</dcterms:modified>
  <cp:revision>609</cp:revision>
  <dc:subject/>
  <dc:title>Presentación de PowerPoint</dc:title>
</cp:coreProperties>
</file>